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50398"/>
        <c:axId val="88478418"/>
      </c:barChart>
      <c:catAx>
        <c:axId val="21650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78418"/>
        <c:crosses val="autoZero"/>
        <c:auto val="1"/>
        <c:lblAlgn val="ctr"/>
        <c:lblOffset val="100"/>
        <c:noMultiLvlLbl val="0"/>
      </c:catAx>
      <c:valAx>
        <c:axId val="88478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50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D1E-6E1D-472E-8B41-444C0EB0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55E-58DB-43DF-93F1-AA614EEA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3E1-0F62-4C3E-BDF0-DD9B6D50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30A-A4DE-4C50-8124-2706FD25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C30-414D-4033-ACEC-D00FA620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3C5-4132-4833-94EF-E6C43ADF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9EC-374F-46C3-97B7-1B0A1468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29A-AE42-4A6A-9BB6-17409A3D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ED1-BC1E-4A35-871C-2F8AB039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F38-6B05-406C-BDA7-CC7A0B7F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387-AA52-4D89-9308-A8E8DF5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C65-E478-4549-9D5A-8FB28F00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7C9DA-FA81-4C01-AA94-287336CFEF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