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85112"/>
        <c:axId val="2770562"/>
      </c:barChart>
      <c:catAx>
        <c:axId val="15285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0562"/>
        <c:crosses val="autoZero"/>
        <c:auto val="1"/>
        <c:lblAlgn val="ctr"/>
        <c:lblOffset val="100"/>
        <c:noMultiLvlLbl val="0"/>
      </c:catAx>
      <c:valAx>
        <c:axId val="2770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85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B02-2FFC-4406-88FC-49645446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0E2-D59B-4087-9117-D53D9DE6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FEE-74BB-4157-9769-D86CAF81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EF2-3B6F-4EBF-AEEC-38B542AB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0C0-718D-4BFE-A5DD-1083894D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B78-3391-45AF-9680-E9F87C5D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6BC-4DEC-487F-A5FB-7A1535D5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994-A709-4CEF-A749-EF0AEA08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CED-B979-4F4F-93A8-EB116490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6E5-4FBE-4694-9DD9-1DEB2CC3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3DC-343F-4C94-89DF-A10BAED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900-4877-41AF-860A-3CCFF647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C5B53-70BE-44BB-A028-1F3199C9EE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