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52865"/>
        <c:axId val="93338759"/>
      </c:barChart>
      <c:catAx>
        <c:axId val="44052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38759"/>
        <c:crosses val="autoZero"/>
        <c:auto val="1"/>
        <c:lblAlgn val="ctr"/>
        <c:lblOffset val="100"/>
        <c:noMultiLvlLbl val="0"/>
      </c:catAx>
      <c:valAx>
        <c:axId val="93338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52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E85-6025-413C-9A14-D1793755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376-712E-4929-9F0C-1FE297DB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D9A-B6EB-4846-A3BA-DFA281A3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9AD-61CC-4010-98AF-4FE34424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C53-997F-4666-A107-A9407C84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F0F-442E-4EF1-BD40-90F59CB0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25C-2D21-46AE-A915-F80A8B81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0D9-2647-4159-A2CD-8848727B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602-3907-4610-BC25-FE125B3D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298-D154-4D95-9F4A-959A4FA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BC9-9ECC-4269-A929-1CAF3518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97C-F8DC-4749-97CC-7643063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B9D6E-2EEC-4133-9A98-7B6922F81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