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17768"/>
        <c:axId val="66836921"/>
      </c:barChart>
      <c:catAx>
        <c:axId val="75017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36921"/>
        <c:crosses val="autoZero"/>
        <c:auto val="1"/>
        <c:lblAlgn val="ctr"/>
        <c:lblOffset val="100"/>
        <c:noMultiLvlLbl val="0"/>
      </c:catAx>
      <c:valAx>
        <c:axId val="66836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17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83E7-2BC0-4CE8-A68C-C8FD1720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900-D3D0-4799-8965-D9247C81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DFB-CC7C-4F08-B13E-F906CA46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563-FA57-47A0-9776-9F8E4D71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F36-F1FC-46C0-B820-71A08207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1CD-366E-4B7A-B1BE-A64C8C02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E33-F583-40A8-A51E-EDADFFC5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966-04FC-45D9-9D2C-0F718830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783-C6E6-4929-ABD3-4DD8D4CD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43E-63B4-4708-BBCD-CAC3C28F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2C4-A217-471C-B93D-CBCB4DE3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244-CF73-4BE4-9F94-247B171A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3904F-457E-4449-8234-70D1360C9A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