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19880"/>
        <c:axId val="31344801"/>
      </c:barChart>
      <c:catAx>
        <c:axId val="89919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44801"/>
        <c:crosses val="autoZero"/>
        <c:auto val="1"/>
        <c:lblAlgn val="ctr"/>
        <c:lblOffset val="100"/>
        <c:noMultiLvlLbl val="0"/>
      </c:catAx>
      <c:valAx>
        <c:axId val="31344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19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4A2-095F-487F-8A2F-1E77A9CC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01F-2DF8-4AB4-83F5-4B9F6854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C34-9930-462F-A3E2-D802D5C6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0D3-F76A-4435-A2B1-111D75EB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9A5-D9C9-40E1-B096-03B4ADF8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D24-C049-4558-A2EB-D27FC046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9D8-F76F-4716-93D6-4E4C4F07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037-EF3E-4692-AE47-62BC9E1F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A0D-96A8-4945-895C-1762C229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83A-81F0-4870-8A66-678303D9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8E0-1AC8-41D0-BFEB-CDB4CC9B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0A9-39BD-4B5E-8DBF-9461A377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C4BCC-3A32-4C2F-BAD0-66240FFC80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