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81864"/>
        <c:axId val="30397962"/>
      </c:barChart>
      <c:catAx>
        <c:axId val="54981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97962"/>
        <c:crosses val="autoZero"/>
        <c:auto val="1"/>
        <c:lblAlgn val="ctr"/>
        <c:lblOffset val="100"/>
        <c:noMultiLvlLbl val="0"/>
      </c:catAx>
      <c:valAx>
        <c:axId val="30397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81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51E-822E-4454-B53C-A2444372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4E6-F503-4022-A15C-2F674CB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EF5-5E69-40C5-9F90-D22F41FF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B0B-5781-47DA-BC2B-D6333B4B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446-0B11-40C8-AAD9-CFD139F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BBD-DA34-4367-BA84-6E380054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A28-58B4-4D6E-870F-12893F39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189-22D2-4CEF-91BF-353B824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FE0-9BB5-4101-A15D-98B964F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E0E-582D-4DC9-9266-73FCABE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BC9-5DBD-4D08-9638-23B0F990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C77-BC3C-498C-BDC3-7DE4A7E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34027-180C-4A88-9EC1-4FCE25933C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