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95146"/>
        <c:axId val="42453144"/>
      </c:barChart>
      <c:catAx>
        <c:axId val="87895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53144"/>
        <c:crosses val="autoZero"/>
        <c:auto val="1"/>
        <c:lblAlgn val="ctr"/>
        <c:lblOffset val="100"/>
        <c:noMultiLvlLbl val="0"/>
      </c:catAx>
      <c:valAx>
        <c:axId val="42453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95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199-4FB8-4D8E-9B01-DA8B360D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967-5B74-490E-8D5B-CB64821E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71D-83B7-48CA-9FD6-0FCE0905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0C3-529A-44E3-8A9E-A0DF8F5D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5FD4-C347-41F5-9148-17098F64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066-CAFB-45AB-AC84-689B92FF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323-B0B7-4FD6-937C-6E47F36F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289-1065-49A6-9FC6-179951B2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4BA-D212-419F-9433-6DFC91D9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163-8DE3-4037-B09B-7EF8D98B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F3D-D73A-4567-B8B3-BCA34723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369-530F-4262-96D5-7B059107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68E31-3A35-4608-ABDC-6E3A451100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