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5558"/>
        <c:axId val="68747266"/>
      </c:barChart>
      <c:catAx>
        <c:axId val="5915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47266"/>
        <c:crosses val="autoZero"/>
        <c:auto val="1"/>
        <c:lblAlgn val="ctr"/>
        <c:lblOffset val="100"/>
        <c:noMultiLvlLbl val="0"/>
      </c:catAx>
      <c:valAx>
        <c:axId val="68747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167-1EDC-4863-92C8-0CB487A6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E1C-4D57-49B6-9F7A-E07B42A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7AC-9BE1-4049-9BF9-A5AC78F6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ACF-3BB2-42C0-8183-7E5DC5C3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340-C745-4585-AA7C-62B02DE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971-B4F0-4AE6-B1B2-3DE4092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A8D-557B-4C43-809D-1785AE4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262-81CB-48EB-8D63-ABAA2BA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0C0-4C18-4EED-BCD0-5840C041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AEC-32C5-4B8D-AA3B-08C5DFF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274-FE90-4208-8178-E18E9B6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911-2FA6-4003-BE92-182D9E5F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B2769-BEF3-4F55-A707-9FA092E19E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