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84535"/>
        <c:axId val="75243249"/>
      </c:barChart>
      <c:catAx>
        <c:axId val="28984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43249"/>
        <c:crosses val="autoZero"/>
        <c:auto val="1"/>
        <c:lblAlgn val="ctr"/>
        <c:lblOffset val="100"/>
        <c:noMultiLvlLbl val="0"/>
      </c:catAx>
      <c:valAx>
        <c:axId val="75243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84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A8B-3FE9-4573-9D04-A238D40F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19DC-BDEB-4F8D-BB78-D18E485A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037-BDB2-4F08-9A39-3420EA45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6478-ACFB-4AEA-9B4E-FB76EAF5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9BB2-00E1-4DBE-8BD8-F2AA2F1C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88B-4B5A-4266-B796-68F2389A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CCA5-60E6-4682-B2FD-6F651DBE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F74-323B-4EC5-9667-6A1B7814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CCF6-AA70-42B6-ACF3-4DF67CC5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941F-2B70-498C-849B-6CD3B647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B8C-2A64-4D84-ABD4-83AB6F5C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B8F-9843-4A53-A859-C58A9482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9736E-A1CF-49C6-BC60-73A9C8959C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