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23347"/>
        <c:axId val="93876262"/>
      </c:barChart>
      <c:catAx>
        <c:axId val="69623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76262"/>
        <c:crosses val="autoZero"/>
        <c:auto val="1"/>
        <c:lblAlgn val="ctr"/>
        <c:lblOffset val="100"/>
        <c:noMultiLvlLbl val="0"/>
      </c:catAx>
      <c:valAx>
        <c:axId val="93876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23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BEB1-58A6-4671-889F-56C29CE1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ADF3-F541-4D25-B4A0-623A4460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5E8-14B1-4B7A-A33B-7C0D7B79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22E-7676-42F8-AAFB-BDD5FA6B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4F2-27B2-4009-8A08-393C290D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9366-2A6C-4DEB-A1E0-A3A0B461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0A9-6B29-455F-8D29-40A80EDB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AD96-D82C-4E67-8221-A67749ED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A29-A4C2-482F-BF30-A09062C8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79E-E469-48E9-BB2A-78DB5F14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54B0-C06E-4D63-8B3E-57E11E35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8A07-EB2E-47FF-95A9-288B9A24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F5F55-BD52-441E-987A-0CE42E72EA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