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4139"/>
        <c:axId val="43915668"/>
      </c:barChart>
      <c:catAx>
        <c:axId val="84554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5668"/>
        <c:crosses val="autoZero"/>
        <c:auto val="1"/>
        <c:lblAlgn val="ctr"/>
        <c:lblOffset val="100"/>
        <c:noMultiLvlLbl val="0"/>
      </c:catAx>
      <c:valAx>
        <c:axId val="43915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4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696-CB27-4DE1-B478-CA92FDC8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CC1-4A6C-4620-B917-04602E9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8DF-546D-4472-B25E-ED59CBA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8E8-E924-4516-8783-96C33338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77B-62A2-4458-9071-C70048C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D5D-EDE7-4972-9BA2-DB214E9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A22-2904-475B-A6EF-434DEEE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C0E-DD8A-4C1F-987F-E83FF1A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A5C-72F9-4976-A467-E8413AE6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721-D9B4-48F3-B2BF-E489F17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5EE-111A-47FB-AC3A-24EED6C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175-6B2F-4A73-9E5F-0E735D8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BAA3B-B2A5-4970-9157-385D574772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