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95219"/>
        <c:axId val="27804746"/>
      </c:barChart>
      <c:catAx>
        <c:axId val="33295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04746"/>
        <c:crosses val="autoZero"/>
        <c:auto val="1"/>
        <c:lblAlgn val="ctr"/>
        <c:lblOffset val="100"/>
        <c:noMultiLvlLbl val="0"/>
      </c:catAx>
      <c:valAx>
        <c:axId val="27804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95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033-6138-4909-955D-47995A68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4A4-BEE4-42A8-8D3D-6D4C953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973-7632-4721-BAC8-0F14FE63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3FD-414E-4198-B50A-943FE190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F79-21B8-4311-892A-8C8D0A2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10C-77FB-4425-953C-9F4E027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01C-9E12-4EAF-AE00-A689D5C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300-9116-4BE5-8D05-8007F81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9C3-1010-417F-A352-8E2F8523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327-1941-44EE-A08E-659E04B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DAB-FE64-4210-9A60-E32800F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F07-9682-4C89-84C6-8E7929B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1D884-F0E8-4EB2-8B62-3BFEC04C9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