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34519"/>
        <c:axId val="18594715"/>
      </c:barChart>
      <c:catAx>
        <c:axId val="932345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94715"/>
        <c:crosses val="autoZero"/>
        <c:auto val="1"/>
        <c:lblAlgn val="ctr"/>
        <c:lblOffset val="100"/>
        <c:noMultiLvlLbl val="0"/>
      </c:catAx>
      <c:valAx>
        <c:axId val="185947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345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E1F-88AA-4C86-9AA6-56E6FB9C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58A7-A56F-4869-AFF4-810DFF48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06C5-2FA3-4890-BCF2-273A4F61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5880-8703-4E17-8768-513F3B8A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AC7-7B37-4837-AC06-5C5C3EAB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806C-2C03-4418-A31A-52F03664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6996-D0AB-46D5-8C1E-E1FD94D7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260-59EF-48B4-8117-3054BEA9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67F-94E4-402A-89C9-95D5E823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5303-E775-4802-8270-54BBD03F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FA0-AC83-4B37-88AB-20E8428F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B92-92F6-4E77-B5DD-EAD76A9C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F4746-5B50-4B29-9092-0F91672271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