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76307"/>
        <c:axId val="21213131"/>
      </c:barChart>
      <c:catAx>
        <c:axId val="11076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13131"/>
        <c:crosses val="autoZero"/>
        <c:auto val="1"/>
        <c:lblAlgn val="ctr"/>
        <c:lblOffset val="100"/>
        <c:noMultiLvlLbl val="0"/>
      </c:catAx>
      <c:valAx>
        <c:axId val="21213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76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528-A871-4B64-8C34-E0AB855E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A6A-EC12-479A-9C9E-D3D46176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FD7-E0BF-4330-BEFB-F563D7C5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E41-F4F2-4489-A136-5652A25F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FE6-36DD-4B9C-B56A-9B4CD382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F73-9DA7-49F0-9347-9D28EE6E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D61-3EBB-4931-AF5D-6B867AA0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F68-B95E-4062-BC26-17EC843D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7BD-8FCB-4395-AAD4-31697EB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841-9741-4D55-B761-E4A24429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29E-312F-49F6-8B4B-97FE741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A3E-F7B2-4C6E-BD45-CC3EE20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2931C-0C7E-4CF7-A768-71DCF49C04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