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54968"/>
        <c:axId val="34321856"/>
      </c:barChart>
      <c:catAx>
        <c:axId val="13054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1856"/>
        <c:crosses val="autoZero"/>
        <c:auto val="1"/>
        <c:lblAlgn val="ctr"/>
        <c:lblOffset val="100"/>
        <c:noMultiLvlLbl val="0"/>
      </c:catAx>
      <c:valAx>
        <c:axId val="34321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54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F20-ACC7-42AA-B224-EA16AF6F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BA3-EA2A-4E06-906F-6E8527F6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C9B-C212-4462-A02E-E87BF610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DF1-6585-4225-A223-3BD5A56E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6BB-4A30-4007-B88A-D475E6C5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70C1-97F0-44B2-942A-9D272A8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C68-F87D-482B-913F-D6C5FB7F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1A7-D2CE-491B-9069-AE5B51A0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CE7-1AF1-43D2-863D-F2968C4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5BCA-824C-4E9E-8CC2-F950FE16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206-B1E6-4889-85E2-6D09901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C9A-654E-4394-B31E-44612640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691E6-D445-4C57-A569-3EABA8E3C8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