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77477"/>
        <c:axId val="38673778"/>
      </c:barChart>
      <c:catAx>
        <c:axId val="23277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73778"/>
        <c:crosses val="autoZero"/>
        <c:auto val="1"/>
        <c:lblAlgn val="ctr"/>
        <c:lblOffset val="100"/>
        <c:noMultiLvlLbl val="0"/>
      </c:catAx>
      <c:valAx>
        <c:axId val="38673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77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88E-1684-49CD-9CD9-2A3893B3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D65-0545-45F5-8511-7EF9A3C5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1AA-BEA9-46E2-88A8-321A78C9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16A-0B90-4B3E-9DAD-688E267C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676-875F-4411-9E5C-3EB1B545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BEE-9C8E-4305-AD37-B7547560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CC8-2CE4-42CB-A93E-825BDB05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9BF-67AE-4C79-9140-0034E19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AA2-58A6-45C1-A64C-22D10F6E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D04-45CF-4203-AD56-7420EE0E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341-96A0-4FAB-9083-571DC9F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7C1-8F9B-404D-987C-D067D1A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5982E-0118-46BC-AAA8-14F86BD3D8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