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12666"/>
        <c:axId val="48121956"/>
      </c:barChart>
      <c:catAx>
        <c:axId val="54812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21956"/>
        <c:crosses val="autoZero"/>
        <c:auto val="1"/>
        <c:lblAlgn val="ctr"/>
        <c:lblOffset val="100"/>
        <c:noMultiLvlLbl val="0"/>
      </c:catAx>
      <c:valAx>
        <c:axId val="481219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12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2D03-207C-48C8-8BEC-333ADAF2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4438-933A-45F1-BE3A-34360064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95BE-282A-4124-A8CA-66F78220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EDA-5C87-487E-B3C1-E8FD653C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9CCE-AB61-46B6-8F40-D1EFB21F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0963-9EB5-438C-B6AB-C0BE58E4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0545-86C2-4F85-A2AF-A4021FA2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D0C8-550C-46E6-ADD9-E2F46D9B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23F6-690E-4B85-A94A-EB75527B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9FBA-C4D3-4A6F-9C60-4E8F6F30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A54C-40CE-4615-B610-65170B4C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3C1C-C47F-41DF-BA10-6195FD4C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783EE-EB4C-4234-894E-7864EE570B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