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52481"/>
        <c:axId val="79256377"/>
      </c:barChart>
      <c:catAx>
        <c:axId val="87552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56377"/>
        <c:crosses val="autoZero"/>
        <c:auto val="1"/>
        <c:lblAlgn val="ctr"/>
        <c:lblOffset val="100"/>
        <c:noMultiLvlLbl val="0"/>
      </c:catAx>
      <c:valAx>
        <c:axId val="792563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52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196-4ABC-48D0-B52A-3328B904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B583-3DB0-4B52-AC6D-D667C958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891-5BB1-45F7-B2D1-DC6F0A27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A47-B84F-4EE2-B3AB-D8099FFA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2EB2-07AA-4579-ABC1-3AE5EF79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AEA-8A3B-4337-BB21-1D070CFC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961-9212-4087-9C26-2B6EFF3D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A29-F015-44B1-99E2-DB3AABB8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1EB0-BAE3-45AF-88ED-67572ACD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B934-519C-4E2B-B822-634B680B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B22-4A98-464C-990B-A4A25A28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E835-800F-45D9-AC7B-0702F8B2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8ACBB-919E-4CF5-9FD4-5AB71C133C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