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324317"/>
        <c:axId val="52154566"/>
      </c:barChart>
      <c:catAx>
        <c:axId val="213243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154566"/>
        <c:crosses val="autoZero"/>
        <c:auto val="1"/>
        <c:lblAlgn val="ctr"/>
        <c:lblOffset val="100"/>
        <c:noMultiLvlLbl val="0"/>
      </c:catAx>
      <c:valAx>
        <c:axId val="521545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3243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2A42-E831-4727-879C-3E93EA4BE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DD96-DB88-4759-9A65-26AB63C6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A79F-E7E8-4554-BAC3-AC2C2471F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1E33-14A7-4E60-B3A2-F9A871431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E807-0A43-47D5-9393-1A34A488F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BE17-A94D-49CB-A7F1-73E8C456D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8B27-19E0-4344-8D65-53FA65161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16F3-FF3A-42E7-A95C-120A17BC2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E275-E9DA-43F9-B432-07265C212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BAB4-FE5D-4E05-8D47-D2A4BD97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4E45-C63B-431E-A205-E14AE621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0A5D-4499-4465-B314-099AFC42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2330B7-84FF-4DF2-A185-409AF7B9FE5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