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49287"/>
        <c:axId val="95176246"/>
      </c:barChart>
      <c:catAx>
        <c:axId val="37349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76246"/>
        <c:crosses val="autoZero"/>
        <c:auto val="1"/>
        <c:lblAlgn val="ctr"/>
        <c:lblOffset val="100"/>
        <c:noMultiLvlLbl val="0"/>
      </c:catAx>
      <c:valAx>
        <c:axId val="95176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49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DBD-9711-49BC-9984-28436B43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396-B0DF-477F-973C-B7AD6918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C04-323B-41C1-B259-8D96FC8F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38F-0D5B-42DD-8B0D-95864CFD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FDE-F658-485E-BA37-81AB6E83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9DC-298F-4AB9-B00F-572B8ED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E57-B0D0-42B9-BD68-CA1F7CCA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237-344F-4945-964E-0C7FDF3D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0FA-C2E4-4427-B4BB-6E2FCE62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F50-0B58-4252-AF77-F58538CC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98B-33F5-4B31-9682-686EEB27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E21-2783-48B2-9ED3-BA0DAE33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A7A96-A1B7-4DB8-BCBF-9F5ACFF2AF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