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92606"/>
        <c:axId val="62966375"/>
      </c:barChart>
      <c:catAx>
        <c:axId val="58892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66375"/>
        <c:crosses val="autoZero"/>
        <c:auto val="1"/>
        <c:lblAlgn val="ctr"/>
        <c:lblOffset val="100"/>
        <c:noMultiLvlLbl val="0"/>
      </c:catAx>
      <c:valAx>
        <c:axId val="62966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92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4B8-55C2-4E41-99B0-D10CB96D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990-2FD1-4E0A-A5A8-95AECEE0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09E-C159-4AAD-8545-E14ABDAE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BA5-6868-489F-8881-428A5250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E6F-18B5-48A3-A6A8-C447B4F0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2C6-1ED5-492F-869C-93BDD6FF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902-1594-44A3-B32B-BBA01BF3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B40-D5A0-4F2C-A0FB-ABEB11B1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43A-94BB-496E-86F3-3786EF1A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271-417C-4F95-BF69-8EF89A79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E08-CDA5-4DF5-B80C-DB2A3806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477-FB16-4AE0-8BBA-CA171868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FE967-2E51-45FD-A195-BAAB523F51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