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87524"/>
        <c:axId val="10572466"/>
      </c:barChart>
      <c:catAx>
        <c:axId val="37587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2466"/>
        <c:crosses val="autoZero"/>
        <c:auto val="1"/>
        <c:lblAlgn val="ctr"/>
        <c:lblOffset val="100"/>
        <c:noMultiLvlLbl val="0"/>
      </c:catAx>
      <c:valAx>
        <c:axId val="10572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87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523-07F3-420D-BBE0-92A9631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12E-8460-4947-A6C1-B20604EB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E71-5FEA-42E4-A8D5-5A7BB216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BC1-668D-4C95-B7FB-96BEFB8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888-4D08-4BF5-AE37-9460EAA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B9D-320F-4BB2-8059-FB87C4DC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58D-D030-4E73-ACE1-5EE2B50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48B-2BE0-4260-A9F3-A6911FC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23F-93C4-4779-9DC6-44764668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408-36EA-4C42-8C67-1315CD13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9F1-5DF3-42A2-8F1F-72D5601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10D-25C7-48C2-B784-92BBCB4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05D3-0A5F-48C3-929F-3A4E4765A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