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99939"/>
        <c:axId val="25746083"/>
      </c:barChart>
      <c:catAx>
        <c:axId val="92799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46083"/>
        <c:crosses val="autoZero"/>
        <c:auto val="1"/>
        <c:lblAlgn val="ctr"/>
        <c:lblOffset val="100"/>
        <c:noMultiLvlLbl val="0"/>
      </c:catAx>
      <c:valAx>
        <c:axId val="25746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99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3182-CE9F-4830-8E30-66FB2416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CD8-5312-43C7-B9F2-EAF4EA39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7A5-C4A3-432D-82F2-A6291102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DE2-5348-4B02-B8D6-F00C66D2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51A-44B3-4F03-889F-695CAFD8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654-37CC-4EC0-AE06-8EAEDC31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EBB-0491-4F02-9F84-36BD1B05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6B5-1A92-4267-8239-530DF024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CB3-F61D-425D-ACE6-4CA043DA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CD42-27CC-47CD-BDC4-8CF61B24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3B3-B66E-4A3D-A413-D072E84F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DB7-E7DD-4E5C-BBA6-9862A3B6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573A4-C31A-492E-B868-B43BA79F52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