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63370"/>
        <c:axId val="79281794"/>
      </c:barChart>
      <c:catAx>
        <c:axId val="13763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81794"/>
        <c:crosses val="autoZero"/>
        <c:auto val="1"/>
        <c:lblAlgn val="ctr"/>
        <c:lblOffset val="100"/>
        <c:noMultiLvlLbl val="0"/>
      </c:catAx>
      <c:valAx>
        <c:axId val="792817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63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B7F-91DE-43B5-BC99-422D8F83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EBD-4141-426E-92B6-3EAEF1EA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C04-C8E8-40E4-8FA0-006DF1C7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4C6-83F1-4494-A63C-CDB8CC5E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912-AA67-47B8-877C-C363C638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F9D-0CF7-44ED-9C46-C9136629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C9C-B418-4FB0-9AF8-FE698F93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BBC-0E5C-47A8-A7A5-633E7BA1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5D9-C02A-4A8A-A614-7B16A161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D27-0130-4BBF-950D-B45D2DAB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5661-EF94-4DDD-8294-4BE26811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BDC4-1C07-4DFA-9655-848D83C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FC8FE-60DD-41DB-9967-3130D46DA1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