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83338"/>
        <c:axId val="26276284"/>
      </c:barChart>
      <c:catAx>
        <c:axId val="68283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6284"/>
        <c:crosses val="autoZero"/>
        <c:auto val="1"/>
        <c:lblAlgn val="ctr"/>
        <c:lblOffset val="100"/>
        <c:noMultiLvlLbl val="0"/>
      </c:catAx>
      <c:valAx>
        <c:axId val="26276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3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463-2254-4AAC-933B-E05E7108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294-0879-42DB-94F6-41D0548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A23-B46D-428B-ADA2-A903B47E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595-7194-4560-9B69-478EF87B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DF9-FE31-4FB9-8BD2-5BBF98DA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C68-C05D-4C59-BEE0-35822CB4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63B-BCC8-45B1-95B4-427FCD92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802-49D8-4AC3-914F-4AB27868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509-E75A-4F73-9190-4677B866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2EC-7CDC-4284-94B3-0237B7E9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536-7590-458E-88E1-3638A95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CCE-A6A5-42C6-8F71-F09EE01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F2802-C3A8-4209-A975-43645F4E9C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