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00810"/>
        <c:axId val="28037019"/>
      </c:barChart>
      <c:catAx>
        <c:axId val="51900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37019"/>
        <c:crosses val="autoZero"/>
        <c:auto val="1"/>
        <c:lblAlgn val="ctr"/>
        <c:lblOffset val="100"/>
        <c:noMultiLvlLbl val="0"/>
      </c:catAx>
      <c:valAx>
        <c:axId val="28037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00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022-E46D-4FA6-BEDB-E5A214BE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D68-C311-4D65-9F0F-9C7177D0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39A-4DFF-42BC-A682-947240BC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CE2-123B-462D-895B-72F6111F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358-0ADC-4E5E-BB52-C1AC6A8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B32-A484-49CF-8C58-AF52458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691-2944-4F21-8CC2-FF1676DE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202-5FCD-454C-BC49-A082AFE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027-FC64-4E6F-A2E7-E6B20DC7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EAD-8837-4768-86C7-D423D92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C88-F866-4105-B7BA-FD8C3B5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874-319D-46B6-9CE3-6F2D598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4268-AA7E-4233-8344-3540A6EA4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