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9034"/>
        <c:axId val="43758441"/>
      </c:barChart>
      <c:catAx>
        <c:axId val="6149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8441"/>
        <c:crosses val="autoZero"/>
        <c:auto val="1"/>
        <c:lblAlgn val="ctr"/>
        <c:lblOffset val="100"/>
        <c:noMultiLvlLbl val="0"/>
      </c:catAx>
      <c:valAx>
        <c:axId val="43758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9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0C2-2F6C-48D0-AF1E-6B1C1ACD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AD8-37FC-4D23-AB9C-670AE278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587-8C60-4734-8EE6-2E34FA54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BF6-94EC-47B0-9AC5-463B1C51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2B7-2ABF-40CB-AE2C-F7A1FB3E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838-2418-4838-B17B-F2D4640C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A00-4717-4E8C-B023-BF0BFA14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FB2-91F5-4845-86DD-49BDA1FA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AA7-C428-4B74-AC7B-82E23363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DBD-22D7-4327-9ABA-127388BC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2AE-31F9-41C3-B9A7-84EF644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4C0-A340-4A02-9ABA-9BAF2DDC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585BA-B9DE-4FAD-8CA5-5E98E0315C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