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9917"/>
        <c:axId val="15055163"/>
      </c:barChart>
      <c:catAx>
        <c:axId val="2109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5163"/>
        <c:crosses val="autoZero"/>
        <c:auto val="1"/>
        <c:lblAlgn val="ctr"/>
        <c:lblOffset val="100"/>
        <c:noMultiLvlLbl val="0"/>
      </c:catAx>
      <c:valAx>
        <c:axId val="15055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9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9AF-1DD3-4053-9010-8D3C57B8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0ED-A1D6-4C4B-B9AE-0C6BA63C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AC6-C1C9-4CA7-8E82-97D5501C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768-3CFA-49D0-88FB-E2918B37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041-357F-4749-BA45-69EB442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965-DFAC-4AFD-BE60-29C83879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FD0-5BD8-4033-A2A3-2F1EF9E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2AE-0A8A-44A8-935E-FD1E27DC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E2E-C9C0-48E8-B33A-FB3A703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E19-691B-4F12-A1FB-B0A8F27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24C-3A47-47B9-9357-35F079F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37F-B1AC-464F-81F0-01EC432D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BCBD4-C7A3-436C-B960-1FDBED4A6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