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03789"/>
        <c:axId val="74020006"/>
      </c:barChart>
      <c:catAx>
        <c:axId val="40803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20006"/>
        <c:crosses val="autoZero"/>
        <c:auto val="1"/>
        <c:lblAlgn val="ctr"/>
        <c:lblOffset val="100"/>
        <c:noMultiLvlLbl val="0"/>
      </c:catAx>
      <c:valAx>
        <c:axId val="74020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03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275-EACB-49D3-851E-D4136A47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DCC-830C-4D33-8A79-A06D2FD9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F12-C845-4716-B692-0F3E9D15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6EB-E7F5-4312-BADA-01477A20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8E0-1C76-4824-AEC2-EA3E869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658-1551-40DF-A00C-38D52B21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9DD-32EB-4F5D-8591-78725039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A58-0354-439A-BDF3-5F715F0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289-73F6-42D8-BFA4-1BBBA01B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0A8-C2B5-4C51-9FDB-7C0590E9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ACC-E205-44DC-A866-F07C703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AB8-DBC1-445F-A613-9A295729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7E4DF-5EE3-47C1-9DF5-EB948F8D8D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