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16267"/>
        <c:axId val="7062837"/>
      </c:barChart>
      <c:catAx>
        <c:axId val="59416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837"/>
        <c:crosses val="autoZero"/>
        <c:auto val="1"/>
        <c:lblAlgn val="ctr"/>
        <c:lblOffset val="100"/>
        <c:noMultiLvlLbl val="0"/>
      </c:catAx>
      <c:valAx>
        <c:axId val="7062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16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6BE-14B6-44D7-8E0F-C70A6759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107-1258-4E25-9A3D-09A51266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231-0CD5-4AFE-9472-542B027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DE8-DD81-4836-893A-08E87D35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B6E-11FC-44D8-A7AE-C33BDDF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1E9-2AEB-4399-9840-1E5B3A5E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117-72B8-458B-83BE-E9DA92B3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3DF-4205-45A1-8CE0-12021E00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F52-5816-4712-95DF-4794B001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76A-2E7A-44AA-B903-FE85D50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A97-4BF4-404D-A5E5-F5A00F4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8B9-4B7D-452C-8EB7-A40BF33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9498D-E017-4484-8D53-4D64FE788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