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80426"/>
        <c:axId val="10607432"/>
      </c:barChart>
      <c:catAx>
        <c:axId val="76380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7432"/>
        <c:crosses val="autoZero"/>
        <c:auto val="1"/>
        <c:lblAlgn val="ctr"/>
        <c:lblOffset val="100"/>
        <c:noMultiLvlLbl val="0"/>
      </c:catAx>
      <c:valAx>
        <c:axId val="10607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0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FF3-CF90-44E5-A552-6C21B80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0C0-5162-438B-9355-CE56990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8B4-6318-4F55-9C73-488772BC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31E-7CFB-4C33-B2F1-CF200505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164-2C89-4847-A3E6-0DA2F1C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E98-B606-45BF-8AFE-92900FE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75E-3D20-4CFD-8658-7A61DF7D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D41-3595-4F81-8898-68F95EF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0FB-E1AB-4FFD-8632-E171F206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EF4-E0C1-4B9F-93F6-093E9CD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2BD-CDEA-4C46-8B1D-E0DEB19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4C5-3531-4845-92FD-A86D9D5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2D329-F77B-4EC3-A708-560AB087B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