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190864"/>
        <c:axId val="78047838"/>
      </c:barChart>
      <c:catAx>
        <c:axId val="521908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047838"/>
        <c:crosses val="autoZero"/>
        <c:auto val="1"/>
        <c:lblAlgn val="ctr"/>
        <c:lblOffset val="100"/>
        <c:noMultiLvlLbl val="0"/>
      </c:catAx>
      <c:valAx>
        <c:axId val="780478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908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16C-6C1C-43EE-9C0E-D2275A84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75B2-A3F5-43B8-A125-EFBE8447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044F-0544-4947-A85D-052A1DB7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D2F7-741F-4032-8C0E-8101EA48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5E1E-5B0F-46DC-856F-A00B7D46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30C-E8FD-44C0-9F5D-342A8814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27C-8FD2-4871-B1DE-9A9907A9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AFF-6DE3-4865-8095-F1D089A6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50F-7E12-4CE4-92DF-B731C92F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4A5-DB02-42C6-9F6D-6738E439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5CFF-550D-4D39-8F45-189EB462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557-1AB1-403E-B25B-6E88FB0E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CB0EE-4C00-4DFB-8BAA-4F41A9E0F4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