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86426"/>
        <c:axId val="16893753"/>
      </c:barChart>
      <c:catAx>
        <c:axId val="60986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93753"/>
        <c:crosses val="autoZero"/>
        <c:auto val="1"/>
        <c:lblAlgn val="ctr"/>
        <c:lblOffset val="100"/>
        <c:noMultiLvlLbl val="0"/>
      </c:catAx>
      <c:valAx>
        <c:axId val="16893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86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3CC-8EED-437F-91E0-F22B0F4F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101-9689-49D3-8A52-8EE611DE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96C-029B-46C6-943B-7D96F891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9D6-68A0-4951-97CB-69CD7D3A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BAE-3DA8-40E8-ACCA-0ED3F60C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062-9EE8-4DA4-AEB9-EECA6D9B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850-0D2F-41A6-A8E9-4B1FE16C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3DD-5CC5-4722-8348-4398AE8B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A05-BD69-4800-8007-AEFED598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1EB-9925-4554-AD21-B233CF4F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A0E-9A4B-423B-89B1-E3DF10F2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61D-9187-4797-8966-6982475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1A82D-AC16-4FD0-9A0B-A5E819BE17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