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450338"/>
        <c:axId val="99233715"/>
      </c:barChart>
      <c:catAx>
        <c:axId val="85450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33715"/>
        <c:crosses val="autoZero"/>
        <c:auto val="1"/>
        <c:lblAlgn val="ctr"/>
        <c:lblOffset val="100"/>
        <c:noMultiLvlLbl val="0"/>
      </c:catAx>
      <c:valAx>
        <c:axId val="992337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50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0C8C-EC62-4E88-BFDB-927FE424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58AC-EBEA-45AB-BFFA-E4115A33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C49-6F70-4F41-861C-0728E1CC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6201-5F29-40D2-B41A-A74D172A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2054-9C6A-41DD-8550-7E507A45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5BC9-75A5-461F-A974-69AE64DD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F183-932E-47EB-9D70-0BDAF664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5083-3D36-46A0-A62C-AE9922BF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303E-887B-4B97-BFAF-D71C0B33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436C-D9D4-4675-BB80-08A76617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E32-C7DC-4E0A-A10A-5DC1F313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BD29-0274-433B-A699-B8BFE77A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8F0F2-BA80-42D8-BE43-B9CFF1B648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