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157"/>
        <c:axId val="56718849"/>
      </c:barChart>
      <c:catAx>
        <c:axId val="8450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18849"/>
        <c:crosses val="autoZero"/>
        <c:auto val="1"/>
        <c:lblAlgn val="ctr"/>
        <c:lblOffset val="100"/>
        <c:noMultiLvlLbl val="0"/>
      </c:catAx>
      <c:valAx>
        <c:axId val="56718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855E-6843-46FE-8BF0-FFB4AA4D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AB9-050F-4488-8E5F-550604C8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3DA-9001-4B5B-B1B7-B7D7EAD8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5BE-74D7-4249-8E57-A5D61651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BBC-E989-4BEE-BBC9-CB6F6340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287-6EFE-422B-ADA7-87212799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04D-2D7B-4E50-A456-C55A4EB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A63-C2A4-4FD5-8F81-E9BCC31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E34-CDBE-40C6-B152-105D12B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520-F090-4121-8D9F-1A9287D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CED-488F-4401-91DF-2D9CF14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393-D217-4644-91B3-E9FB6A7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5B977-88D5-4521-88D8-663615A4D8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