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42187"/>
        <c:axId val="93348380"/>
      </c:barChart>
      <c:catAx>
        <c:axId val="81142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48380"/>
        <c:crosses val="autoZero"/>
        <c:auto val="1"/>
        <c:lblAlgn val="ctr"/>
        <c:lblOffset val="100"/>
        <c:noMultiLvlLbl val="0"/>
      </c:catAx>
      <c:valAx>
        <c:axId val="93348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42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DB6-0829-4B02-90CD-A05B90F3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95F-C229-469B-A636-19FC340D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AA9-19F9-4E51-BF1C-DA2CC938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4A3-E115-4B03-AA1B-FCE4F045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3CD-9BDE-4327-9BEE-5E07FFBC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F0A-4F46-4F96-8087-4112B979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79A-A8F7-41C6-8DA1-696BD8B9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A2E-D9E8-4DC4-AC47-B2B31061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8C5-7AAA-43EE-AE62-E1045CC0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AB4-233E-4FFE-A857-8DACFB17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727-863B-4BF9-96BB-69AF5AD2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5F2-C076-4F78-B496-4DD5CE4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241EE-F92B-4176-A41F-ABFD0828E2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