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80190"/>
        <c:axId val="69932035"/>
      </c:barChart>
      <c:catAx>
        <c:axId val="28680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32035"/>
        <c:crosses val="autoZero"/>
        <c:auto val="1"/>
        <c:lblAlgn val="ctr"/>
        <c:lblOffset val="100"/>
        <c:noMultiLvlLbl val="0"/>
      </c:catAx>
      <c:valAx>
        <c:axId val="69932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80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46B-A087-45A0-B0DC-34BA6B88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A4E-96F7-4D0C-A7A0-F0519A2D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0FA-32B5-4FE3-A8E6-14A61738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6C9-9820-4207-B674-91FE5303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76E-2A38-4C27-A001-6B781131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D8E-7209-424F-AD16-FE0471FF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819-6019-4A5E-BCDE-8505F322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310-CA5A-47A6-B0F6-2A1BFCFA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6D04-284B-488D-8518-3A71100A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BA0-00CA-4DB3-9040-E9BDB545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06E-3384-44BE-A9FC-DDB85911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4E9-DFD7-454D-9F66-3C71F542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1ED95-4645-4224-BE91-F19DEDFE44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