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10977"/>
        <c:axId val="58394364"/>
      </c:barChart>
      <c:catAx>
        <c:axId val="37310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94364"/>
        <c:crosses val="autoZero"/>
        <c:auto val="1"/>
        <c:lblAlgn val="ctr"/>
        <c:lblOffset val="100"/>
        <c:noMultiLvlLbl val="0"/>
      </c:catAx>
      <c:valAx>
        <c:axId val="58394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10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94F-989C-48D1-BFC6-589B194D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4DA-F415-4677-AFCA-089F40E4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482-E90F-4713-AFFB-CEC3F2DB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BE3-B196-4C3C-83DD-E03259BB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BD4-DAD2-4B55-AEAD-7BCDA637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F6D-E6B4-454C-B7F9-020DB2FD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ACA-284B-49D7-8301-8F3037E7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645-0479-48C2-A990-282FDA04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806-AB5E-420D-B28C-BC38CBBF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D38-2BDE-4688-A810-354AD835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73F-1CEF-41CE-9DF0-FA893B82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419-BA96-454A-9F84-203D6CA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8A6DC-5C75-407E-9B0D-E737F1145C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