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94094"/>
        <c:axId val="15824318"/>
      </c:barChart>
      <c:catAx>
        <c:axId val="54094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24318"/>
        <c:crosses val="autoZero"/>
        <c:auto val="1"/>
        <c:lblAlgn val="ctr"/>
        <c:lblOffset val="100"/>
        <c:noMultiLvlLbl val="0"/>
      </c:catAx>
      <c:valAx>
        <c:axId val="15824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94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38D-16A0-42ED-9E58-417ADF40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5A7-D7BA-40BE-88BF-0C371939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65F-462E-4615-9DC8-FD2BE44D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A65-42D9-4681-8E92-FBECA2A2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43F-D7BB-49F1-9D53-9D331E54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675-D87C-4461-B2C2-E9C8B4D5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F5A-EF11-4719-90D9-24A9A012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2FF-B843-4CA2-B5C9-6A0055C5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0DF-3236-4A93-B42E-DBFD8414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F8D-38AF-43E0-9A13-9AF68068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6FD-447B-4F8F-BF4A-3B51903C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9B2-B5FF-4160-AA09-7112D3EE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2A953-4D1C-4991-899F-3A49EEFB37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