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13043"/>
        <c:axId val="57358078"/>
      </c:barChart>
      <c:catAx>
        <c:axId val="41113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58078"/>
        <c:crosses val="autoZero"/>
        <c:auto val="1"/>
        <c:lblAlgn val="ctr"/>
        <c:lblOffset val="100"/>
        <c:noMultiLvlLbl val="0"/>
      </c:catAx>
      <c:valAx>
        <c:axId val="57358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13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380-2C28-4240-B9DB-239059E8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D02-9B5B-47CA-BD84-EEC7BD56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207-329A-4A62-9224-45BFFF0D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D7B-E853-4C1F-970B-AF8B6C97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697-D6B9-41E9-90DF-748C579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8A4-FD12-4998-B253-852F1E1A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A60-5B40-4E98-91F4-8EEBAC3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DFE-76E1-4903-9A86-6F6EC6FA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2A0-5FE0-46D1-A20F-E6743D1C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792-EE78-45DF-956E-76F2250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2EE-61E4-48D6-B307-C07F527F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59D-5642-4122-8BCC-1639CF84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BE1A0-E2B0-4DF2-872A-7F97296CA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