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804117"/>
        <c:axId val="48959128"/>
      </c:barChart>
      <c:catAx>
        <c:axId val="488041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959128"/>
        <c:crosses val="autoZero"/>
        <c:auto val="1"/>
        <c:lblAlgn val="ctr"/>
        <c:lblOffset val="100"/>
        <c:noMultiLvlLbl val="0"/>
      </c:catAx>
      <c:valAx>
        <c:axId val="489591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8041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246B-0905-4D64-A15B-A539F57AA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1CEA-5031-47FB-9FA5-EFF5451E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5721-7A55-49DE-A307-E5993BD9E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CAE2-2B19-409C-AC60-0419321B5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2FE0-7D8B-47D2-893E-F55AEA69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3C81-16AF-4234-89E0-54609804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D837-CEA7-48AC-9E65-6B714147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C5A8-E989-4D8B-89D9-88C62952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6D23-DA13-4AC2-B661-732605A8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C7DD-7898-4363-87FD-6E56A29A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9FE6-B2F5-4905-A85B-C00416FE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D602-88C2-4C27-9B5D-E26AC8F9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32999-BE97-46DC-AB5A-A165D7EE0A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