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18608"/>
        <c:axId val="38148697"/>
      </c:barChart>
      <c:catAx>
        <c:axId val="67518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48697"/>
        <c:crosses val="autoZero"/>
        <c:auto val="1"/>
        <c:lblAlgn val="ctr"/>
        <c:lblOffset val="100"/>
        <c:noMultiLvlLbl val="0"/>
      </c:catAx>
      <c:valAx>
        <c:axId val="38148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18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C06-C32A-4531-AF16-EA1BF398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5A0-D5C0-420E-9470-E67055EA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952-FC7D-40B1-80C4-B752800A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771-0804-4D7E-91D6-142E288B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57F-5843-485D-9D8D-C508FE49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799-49A3-45F9-B859-AC553B9F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CB7-142D-4E5E-9B61-A7E58F82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194-5285-4015-B118-2A0A83CD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264-8F2D-47A3-8A0C-6F74B32A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157-6FB9-4AF1-9296-1DA9222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A7D-4050-4D6D-9ED5-96A71B74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D81-B0C9-45C5-9DFA-0DDAFF1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BDBC8-8F11-41E3-9852-45C32A4C15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