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01149"/>
        <c:axId val="58653515"/>
      </c:barChart>
      <c:catAx>
        <c:axId val="62201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53515"/>
        <c:crosses val="autoZero"/>
        <c:auto val="1"/>
        <c:lblAlgn val="ctr"/>
        <c:lblOffset val="100"/>
        <c:noMultiLvlLbl val="0"/>
      </c:catAx>
      <c:valAx>
        <c:axId val="58653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1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CFF-49C2-4B30-B615-1EE1765C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8E4-05AA-4FDA-8553-4D926B36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AF8-0246-4877-A943-47520253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90F-D9FA-4355-BA6E-AE7E7DED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EFE-92A5-4D89-B207-8D7745E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6BB-DF6F-468D-98E2-EADAC78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E6E-988D-4093-AE0A-C07B201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60A-20A9-4EA3-8124-2790A6F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36C-EADD-4B6D-9227-86D2AD2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EE5-C7A8-4FA3-BC89-B056393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E70-6937-4A93-A6F9-22D2318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C72-D5F8-4ADF-941D-9405030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B23F0-CF5C-4314-97CB-54960057D2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