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16244"/>
        <c:axId val="68907974"/>
      </c:barChart>
      <c:catAx>
        <c:axId val="88616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07974"/>
        <c:crosses val="autoZero"/>
        <c:auto val="1"/>
        <c:lblAlgn val="ctr"/>
        <c:lblOffset val="100"/>
        <c:noMultiLvlLbl val="0"/>
      </c:catAx>
      <c:valAx>
        <c:axId val="68907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16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082-AFD8-475E-B226-2BA2207F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4B0-8FFA-41B8-9C41-278B615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F05-7B28-438C-B29E-A7734F93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2AC-64AA-4CC3-B0C9-80C5B438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3DE-A7D5-486A-9AEF-1C3FCA49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55A-0B5A-43F3-9723-AEC8B8B0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605-71DF-417D-8A90-F56F9B1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44C-8F8C-43D9-A0D2-6A406E8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73C-6754-46E7-A6DA-AC29A135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DB3-E7C0-4BED-B899-A3A8FFD5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93B-9B83-46DB-B020-5CD47BC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1BD-36E5-4B73-BE6B-81F2B53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44E77-D635-42AB-9E99-078336D6C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