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31139"/>
        <c:axId val="53282018"/>
      </c:barChart>
      <c:catAx>
        <c:axId val="99931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82018"/>
        <c:crosses val="autoZero"/>
        <c:auto val="1"/>
        <c:lblAlgn val="ctr"/>
        <c:lblOffset val="100"/>
        <c:noMultiLvlLbl val="0"/>
      </c:catAx>
      <c:valAx>
        <c:axId val="53282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31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E2F-803E-488B-B09C-FD3826C9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F5D-528F-4C93-8DDC-8C1684B7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526-211A-4419-AB25-0AC69AC8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6F9-A2AC-4D7E-A7EC-E1E5A323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080-61D7-462A-8C1F-D5BC5B15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2A1-341E-4486-9F5E-77EB79D9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C97-D90B-45AB-9441-EE7D8557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E17-5288-4DC9-9370-C39CE3D1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455-42B3-494F-A88C-862B01DA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041-C86E-4031-A042-11CE2C08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A3B-48A6-44B1-AD77-B8A5A607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2A5-2317-46F6-85D6-75B3DE1D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045C4-82B8-48D9-A1C4-C9F1706504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