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96131"/>
        <c:axId val="22589407"/>
      </c:barChart>
      <c:catAx>
        <c:axId val="477961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89407"/>
        <c:crosses val="autoZero"/>
        <c:auto val="1"/>
        <c:lblAlgn val="ctr"/>
        <c:lblOffset val="100"/>
        <c:noMultiLvlLbl val="0"/>
      </c:catAx>
      <c:valAx>
        <c:axId val="22589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961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1F23-7775-4D91-94E9-EDB6C211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68AC-EEDB-40DE-BE57-7F52A6F6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C586-F0BA-4D8B-A78C-A5A5D5EB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123-DD3D-4985-A609-AB4A50BF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BD2F-2F94-4BAF-A6D8-DDD9F4E1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4B50-3BBF-4AC5-8CFB-364623E2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226-08B7-40F1-A4C0-21712313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F34-49A1-4623-8995-89602063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A5F2-3427-4C2E-80AA-99C7AA36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96E-9ED2-4983-A783-2522C2C9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EA9-494E-4C6B-89FA-8E31F335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E713-9553-4940-9A86-5AFBF7CB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318C3-338A-4EF3-BE03-169DCB8B87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