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74416"/>
        <c:axId val="77062961"/>
      </c:barChart>
      <c:catAx>
        <c:axId val="42374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62961"/>
        <c:crosses val="autoZero"/>
        <c:auto val="1"/>
        <c:lblAlgn val="ctr"/>
        <c:lblOffset val="100"/>
        <c:noMultiLvlLbl val="0"/>
      </c:catAx>
      <c:valAx>
        <c:axId val="77062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74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FE2-5AB8-4D53-8A0B-341301EA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C05-1FB6-42B5-ADFF-F8C00A7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2EA-4301-4C76-A993-95F7FBB9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885-A546-4C9D-A587-93890449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D3D-76F9-4F1B-83B1-A6DA2BB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E38-19D2-4DFC-9669-841A023E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461-6CE2-4819-9F90-52CAE57D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BFD-BAEB-483E-9E81-D2848AA3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847-2B26-4117-A44B-0C6F98DC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788-EFAC-4241-89EA-38F66EB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256-1718-461C-BB18-E4CB6AC3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BBA-F8A1-4C0F-B901-5627A04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5D995-9F0F-41BB-9D2E-F8C302DCB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