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0696895"/>
        <c:axId val="68784747"/>
      </c:barChart>
      <c:catAx>
        <c:axId val="9069689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784747"/>
        <c:crosses val="autoZero"/>
        <c:auto val="1"/>
        <c:lblAlgn val="ctr"/>
        <c:lblOffset val="100"/>
        <c:noMultiLvlLbl val="0"/>
      </c:catAx>
      <c:valAx>
        <c:axId val="6878474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69689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1926-8FD2-4BED-A279-1A3ABC5FE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A14A-40BF-485A-8DFF-8735E7169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7798-E7AF-4346-9AFC-6DB022847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954C-BC84-41AB-83DC-A73877AAC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C99B-C1A9-4803-BDC6-422ABB01E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337D-1AAB-4254-A4BE-134CF1442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3C92-3B3F-4125-A268-5B2AEA581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CC46-F900-42FD-9FE0-A77C1085D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27F5-32A0-4222-A13E-0D4C8973D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0A09-044F-4AA8-8B0D-AFEF0A542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0130-5ADA-4E7E-ACFB-A075FC9FB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0058-5DDB-4FA1-AE7B-793EE0AAE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896D15-65AB-4097-BD3D-E9945021470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