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55808"/>
        <c:axId val="51076655"/>
      </c:barChart>
      <c:catAx>
        <c:axId val="15755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76655"/>
        <c:crosses val="autoZero"/>
        <c:auto val="1"/>
        <c:lblAlgn val="ctr"/>
        <c:lblOffset val="100"/>
        <c:noMultiLvlLbl val="0"/>
      </c:catAx>
      <c:valAx>
        <c:axId val="51076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55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0A0-3B54-432B-8CA6-B2892E65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7FB-21A1-4E49-82EE-D37567A2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F9D-70F5-4BE4-844F-EA36125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FB9-E13A-4286-8D06-3A63EED7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DF0-18E0-49AD-8A14-AE207DB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7A4-A2B9-4FF1-9C97-9130B3F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5E2-53DC-455B-8DCC-EF95C98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CA8-6A1B-4A4D-B108-C490EBA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14C-5C8E-48D0-B60F-E9DF3710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D9-FC62-40D7-9580-D9DF90D8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3BF-08AB-4AE7-A2E0-5693495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3AB-EFE6-41BB-9818-5E99CA5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1755B-4F26-43D4-813E-A6E87BF4A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