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14940"/>
        <c:axId val="11975933"/>
      </c:barChart>
      <c:catAx>
        <c:axId val="563149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75933"/>
        <c:crosses val="autoZero"/>
        <c:auto val="1"/>
        <c:lblAlgn val="ctr"/>
        <c:lblOffset val="100"/>
        <c:noMultiLvlLbl val="0"/>
      </c:catAx>
      <c:valAx>
        <c:axId val="11975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149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6FF-F0DE-43BF-BA37-0A1271D7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C8EE-AC3B-4FF0-A6C8-D6660599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C5C5-C265-487D-94F4-0964404D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57C-7D54-4EA5-ABDA-BE7FAC59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2E4F-E29C-4F04-8CD6-8EA0E3C9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ABC-9385-4BD2-8CF1-AA189295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DB74-AA43-44C3-BD9B-1E5AD5BE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50C-CE8F-4DA7-B0DB-88177C78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9B2-54F0-4C8D-AD3D-CFBCD7A2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9BC-582E-43AA-8DD5-8AEA0880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71E-5B7C-4C45-AA34-A5B1CDD4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829-D967-4A4D-9E47-F49259A5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3763A-9AEA-4087-8809-23E910453B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